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3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A7617-2AC7-4073-9434-4BB3FB8D6F0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1CD84-C1D7-4A22-8A35-EAA597C5DB8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F3506-FB87-429C-93E7-ECF214CD0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6FBF2-68CF-406B-8C16-EFAF147C7B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A607A-F1A2-42E2-96D5-8D818FDD3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428D0-D027-4D64-9638-EA093B64227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B7E09-FC51-4BDA-9CE9-7360C64A0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3FF30-0F24-447D-BFC7-62D2EECB38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BA80A-4DC2-4AD2-B27A-C3FD4D465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7AB06-8C49-4B26-BD3A-DDB32577D39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BCD59-8412-48F8-8AB5-E5792BFC86E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C4CB8-732C-47A0-9B51-E0AB3AFEB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44847-ABD3-4862-96EB-3BE6F195367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188C4-C28D-43C6-95A3-0727313C7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8F3D7-DA4D-46B2-8720-463105D89B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FF2F4-B610-4F5A-A612-E4B0E067C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BFADE-C8B6-4946-AD3A-0BD81A750E6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BBF33-6C45-4BFD-A8BC-D9311A8C3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AE968-E3EE-48CF-A532-4548ED0675A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04D9D-F838-4EA7-98A8-577487E1C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5C44E-409E-442E-BE19-82160DE639C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BAF52-F6B3-4BBF-86E6-92287DFDA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2715A-3A35-4E48-95CD-60B968171D7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DD2D7-FEC4-4988-869C-FB0839BAE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B6898-6CE5-41C5-81C4-FA68AC8AB2A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3BE0-4580-4FE1-9E0E-404708F7B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04AE-CEA4-480E-9D94-1A3689BBE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0484-42C2-43AC-92D3-73B15B39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96EC-9B09-418F-A981-7B79DEC2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708A-61E7-4F05-A632-42D6274AB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901CF-B9B6-4947-94C7-8BAC3A75E2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A5204-0997-41AB-8DF9-52A5D4F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F69F8-0785-4180-BC22-B656C28A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5BBE9-9C89-45F6-BEBE-9E72035A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570BE-A44A-4AD0-AECA-3BD1580E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BE2A7-F26C-49CA-AD15-441CF5D5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C65BE-3835-4E44-81F5-AADC19C5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99BA-2CA0-426D-AFD9-5DA7852E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22483-9BF9-4829-A2F3-A52F372A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03515-B2C5-41E2-BF23-9634ED82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22EE4-4BF6-443F-A07E-A652B051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6C747-044A-493D-AF0E-83409684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EE39F-4A6C-459F-8B4B-CAAD2BF53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43E2-D226-4E24-A64A-581AD84E2D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2DCA-7CC2-4BAB-9AFA-BE4D2E7F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5D10-0B77-4A94-A2F4-002FF3EB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0E23-D103-4D8E-B008-BE3578A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17E8-61F1-4C39-B4D5-5B66A1D2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32A4-3991-488F-B7BC-CA79B09C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CD15-7058-4C2C-AAD6-E6E74E61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999-C452-4307-98E2-A6128E24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1A65-B73F-4F11-8FB9-0CF6BF5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5518-BCC9-4F66-BF3B-2C9F546E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6AF6-4C46-4E1F-981D-3F2F0D16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BAFE-C98F-4A4B-BDBB-6E3F8B3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5487-B832-4629-9FBE-3E4B65E27F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D3788-093F-4030-B60F-86D6F09A7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8FCB5-DBD0-44DB-9A1E-2513FAA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29176-4484-43AE-9514-67C0E623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25AC-671E-49E3-8ABB-FF1BE930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11EFA-0777-40F3-8B9F-5427AA1C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A420F-31D7-438D-AA88-06061173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50441-6303-451B-BEFB-13FD0EC3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E649C-5A3B-4343-B846-3D1A4C9D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7F8AA-E072-46BD-9E9F-504D7673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E39C2-7CCB-404E-A67E-FD8536C7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BD37E-DE71-449C-A1A5-01D372FB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BED1E-BBF6-4F59-BC54-2ADFF8BA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D2275-5B56-48AF-8A9E-E7394EAD1C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A95E7-C576-41A3-9C05-A1A7D1E81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0752-332C-4767-852B-B041FC03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5197F-C6BE-4637-AAD3-C8ACC80A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8431B-CFEE-439A-BCA6-97765631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F1FE9-C819-4A4C-B572-78065511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18DE7-6DE9-432E-B0AB-D37A8B84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7E8F2-78E9-4CC5-961E-8E08A734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1245D1-8813-4E7D-BFE0-712CE3A5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D1F8C-F11F-4774-A7F2-6CBD0CCD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2DFEF2-CF09-43C1-9B97-E22ADDBE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D9C49-9EC4-45DD-AD9D-E4BFE6C5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D3A8E-CA9A-4FD1-B25E-5CCACC3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6D32-7062-4B23-94DC-5FC0AF01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C3BD0-D796-4C94-9776-ADA9CE159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FE4D-92B3-4EDD-82F5-8A1A4E6E24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2E71-BC88-4475-BF57-51B90C6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1A8F-CCF1-407C-9F06-A2144B97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9B31-1E33-4EFB-854B-F075B838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04EBC-0F6E-47E4-AE98-449EDEEE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5718-92AA-4A2C-A017-CAA1E61B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9DC5-A6DD-4749-87B6-E558312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CA90-95CB-4DA0-973E-8AA1329C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CD345-057E-41C5-8F1A-F332A0F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2075-1A4A-48EF-B139-672E34AB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E3CC-7190-4990-8A6F-A6D2679E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6FAC-A848-4169-944B-6F99AE0E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3C7B-9F0A-4A13-B30B-123A3F27DA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6CB60-9C18-413D-9813-2E0747F508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DBDAE-CF00-4282-B8E2-0AF9B26F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AB4AD-957B-421B-BCC4-EED54F1A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34444-DB60-406A-BDCC-6E531891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C562A-4DC0-4076-98E2-01609D3A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BD680-D043-4A1B-B470-C7D025D2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AFBBD-1E72-4027-93A0-41FA55F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3249-0839-4C6C-81C6-1F7E872B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52351-B1A6-4CE2-A096-6AAF988E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38BF9-EED2-4EFB-B42F-9244CCB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501DF-4DDE-4F5B-BF33-CD8850BE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007FF-D8E0-4720-9959-1E0A276F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8C149-0C8A-48EC-A89B-46E76A52C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390F-B41B-4B9B-B349-391A9DD6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B7D00-BE1A-4C03-A0F5-75618D137C6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6DC651-9257-4E11-A190-4A48EDE25C0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45A449-0089-48A2-9EAD-1ED1B0CBBB4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48F110-7767-4CDB-82DE-9038313E747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3EF492-458E-42E5-B66F-2E12C7DBF0F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A838CB-8C79-4EBF-BB99-583B6025789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1206D7-2E7C-48DA-9BFB-4DE099AED00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ерендеева Ирина Михайловна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\сад «Ручеек»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246560" cy="2951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Ucer</cp:lastModifiedBy>
  <dcterms:modified xsi:type="dcterms:W3CDTF">2019-03-24T05:42:41Z</dcterms:modified>
  <cp:revision>28</cp:revision>
  <dc:subject/>
  <dc:title>Слайд 1</dc:title>
</cp:coreProperties>
</file>